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A96-DFE5-4E07-ADC2-0D440C80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809-5170-419B-92F8-402F96F0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905-7BB3-4AA7-9896-5A86D126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5C8-3B71-437B-983D-6D0CEA23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E884-197F-40F2-A7F9-9A796D98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620B-B2E6-481B-B68A-FF2D9BCA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FD0C-CD1E-4323-82F7-C9389827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EB49-DF0B-4666-8676-2504BC59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8BB6-9EE5-4FBE-90C2-F752696F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4834-4F94-4460-8BE7-BD450049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ED88-045E-46C2-AC72-97821603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C65-F389-4C6F-B75F-948D02CA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625A-73DF-4857-BFF1-273C2E8A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769C-AB93-4BF6-A0CB-FD48A0F3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C3A4-8220-4D89-8808-62576657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B080-5491-43B3-97D8-F2F88FAD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587C-AD65-4B92-B943-DAEEB23D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30A-F6EB-4C15-8B1C-CC749D7A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6EA-0FEC-4F70-921B-898F4F96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410-01A7-4C3F-B60F-2EEE28A3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50B-BFD4-4A40-A89A-E4DD4A23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EDA-6BAB-4D3F-B81C-1A1C0E8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3D2-2231-4B7D-9CC6-B0E7167C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5E4-CA31-4CAB-8B40-BE641490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BC24-36E7-4B02-8E36-F533EBFFE98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3DDF-082B-49BA-AC3B-F1DCACDA142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Организация и проведение маркетинговых исследований на рынке образовательных услуг</a:t>
            </a: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.э.н., доц. Скоробогатых И.И.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.э.н., доц.Сагинова О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"/>
              </a:rPr>
              <a:t>Российская экономическая академия им.Г.В.Плех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«типы» преподавателей  маркетин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ладные экономис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овое прикладное экономическое образование (экономика торговли, предприятия, МТС), имеют навыки использования исследовательского инструментария. Методика преподавания отличается большей практической направленн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«типы» преподавателей маркетин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ономисты-матема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овое математическое (инженерное) образование. Преподавание маркетинга насыщено большим количеством математических расчетов, применения математических моделей (большая научность). Основная сложность в увязке мощного математического аппарата с конкретными реалиями развития бизне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«типы» преподавателей маркетин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нгвис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овое лингвистическое (филологическое) образование. Использование в преподавании зарубежных источников. Основная сложность заключается в отсутствии у большинства экономического образования для осознания проблем развития бизне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акторы, способствовавшие переходу преподавателей к преподаванию маркетин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ние инструментарием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практического опыта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ние английским язы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ая атмосфера вуза, поощрявщая иннов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79600" y="1676520"/>
            <a:ext cx="76262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Идеальный» набор характеристик вузовского преподавателя маркетинга для современной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овая подготовка по маркетингу в одном из профильных в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ее владение английским языком, позволяющее следить за новинками научной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ыт работы или связи с бизнесом в виде консультаций, работы над проектами (знание реальных тенденций в практической маркетинговой деятельн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мление и готовность к самообразованию, повышение своего профессионал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то преподает маркетинг в российских вуза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ц.Скоробогатых И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orin@rea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837720"/>
            <a:ext cx="73911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600200" y="35593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етинговые исследования, проведенные в 2001-2002 гг. в  Международной школе бизнес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ЭА им. Г.В.Плех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тем и направлений научных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тематики и направлений учебной литературы по маркетинг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преподает  маркетинг в Российских вуза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BS02064_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E03166_" descr=""/>
          <p:cNvPicPr/>
          <p:nvPr/>
        </p:nvPicPr>
        <p:blipFill>
          <a:blip r:embed="rId3"/>
          <a:stretch/>
        </p:blipFill>
        <p:spPr>
          <a:xfrm>
            <a:off x="6324480" y="3809880"/>
            <a:ext cx="198144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BD06663_" descr=""/>
          <p:cNvPicPr/>
          <p:nvPr/>
        </p:nvPicPr>
        <p:blipFill>
          <a:blip r:embed="rId4"/>
          <a:stretch/>
        </p:blipFill>
        <p:spPr>
          <a:xfrm>
            <a:off x="4267080" y="5410080"/>
            <a:ext cx="192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Comic Sans MS"/>
              </a:rPr>
              <a:t>Основные понятия: </a:t>
            </a:r>
            <a:r>
              <a:rPr b="1" i="1" lang="ru-RU" sz="3600" spc="-1" strike="noStrike">
                <a:solidFill>
                  <a:srgbClr val="996633"/>
                </a:solidFill>
                <a:latin typeface="Comic Sans MS"/>
              </a:rPr>
              <a:t>потребители и целевые аудитории вуз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133720"/>
            <a:ext cx="1981080" cy="914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пани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286000"/>
            <a:ext cx="1828800" cy="8380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уденты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уш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200400"/>
            <a:ext cx="3124080" cy="198108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495360 h 1981080"/>
              <a:gd name="textAreaBottom" fmla="*/ 1486080 h 19810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733920"/>
            <a:ext cx="198108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286000"/>
            <a:ext cx="1981440" cy="8380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судар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об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5105520"/>
            <a:ext cx="1676520" cy="9903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дит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09880"/>
            <a:ext cx="2210040" cy="9907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битуриен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шко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5181480"/>
            <a:ext cx="2590920" cy="9907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подавате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авщ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105520"/>
            <a:ext cx="1523880" cy="9903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 проблем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25 лет назад в России маркетинг не признавался практиками и учеными, не было специалистов, которых бы готовили вузы, так кто же сегодня преподает маркетинга в Росс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бинетные исслед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ственные наблюдения авторов, имеющих 15-летний опыт преподавания маркетинга в ведущем российском экономическом ву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евые исслед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ефонные интервью с преподавателями маркетинга ведущих вузов Москвы, Санкт-Петербурга, Владивостока, Екатеринбур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борка респонд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скв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спонд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кт-Петербург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респонд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адивост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15 респонд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катеринбур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15 респонд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опрошено : 65 человек – преподавателей маркетинга ведущих вузов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«типы» преподавателей маркетинга, выделенные в ходе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Экспорт» зарубежных профессионалов- преподава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подготовка российских преподавателей по различным программам в России и за рубежом для совершенствования преподавательского мастерства в преподавании маркетинга и других бизнес-дисципл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Становление маркетинга в Росс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«типы» преподавателей маркетинг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итэконо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зовое экономическое (преподаватели политэкономии) образование. Традиционны в использовании методики преподавания. Нуждаются в подробном учебном материа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18:55:30Z</dcterms:created>
  <dc:creator>default</dc:creator>
  <dc:description/>
  <dc:language>en-US</dc:language>
  <cp:lastModifiedBy>default</cp:lastModifiedBy>
  <dcterms:modified xsi:type="dcterms:W3CDTF">2002-10-02T20:16:41Z</dcterms:modified>
  <cp:revision>1</cp:revision>
  <dc:subject/>
  <dc:title>Организация и проведение маркетинговых исследований на рынке образовательных услуг </dc:title>
</cp:coreProperties>
</file>