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35E-C3EE-4C0A-9609-6E97B38E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7CD-4536-4AB0-9045-10FC8E7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350-00C9-4AD7-AB08-020B09F8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A7E-BE89-439F-9454-61BB9677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F6C-058D-48C7-8FB8-96F2036B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C3F-BCFF-4FDF-87BF-5F223A4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F3B-CB72-4707-A881-85B9CD59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F62-F7E5-4195-A4B2-3CD800FF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6D2-B7F9-400A-9C5B-0EA5645B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F43-5FE5-4490-856D-AE0D6885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A14-4810-47F4-8905-C3B02E6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06E-ED9B-469C-B79F-169ABD7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Маркетинг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 января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7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Международная школа бизне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РЭА им. Г.В. Плех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909"/>
                </a:solidFill>
                <a:latin typeface="Comic Sans MS"/>
              </a:rPr>
              <a:t>Маркетинг высшего образования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новные понятия, новые тенденции и перспектив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агинова О.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оссийская экономическая академи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м. Г.В. Плехан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9"/>
                </a:solidFill>
                <a:latin typeface="Comic Sans MS"/>
              </a:rPr>
              <a:t>Структура  образовательных услуг и возможный конфликт компонентов</a:t>
            </a:r>
            <a:endParaRPr b="0" lang="en-US" sz="32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286000"/>
            <a:ext cx="6858000" cy="33526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ждународ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6960" y="2666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уде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5400" y="3276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подавате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495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тне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1720" y="4267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бподрядч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ите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276720"/>
            <a:ext cx="2362320" cy="1523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уд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2438280"/>
            <a:ext cx="2286000" cy="15242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3962520"/>
            <a:ext cx="2362320" cy="1523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ль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дап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133720" cy="1523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к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3962520"/>
            <a:ext cx="281952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ощь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352680"/>
            <a:ext cx="2438280" cy="1600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уденчес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ферен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276720"/>
            <a:ext cx="243828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уденче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3505320"/>
            <a:ext cx="2819520" cy="14475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жкульту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нин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пода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048120"/>
            <a:ext cx="3124080" cy="1904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и размещ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т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590920"/>
            <a:ext cx="320040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учени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ирова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т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514600"/>
            <a:ext cx="3733920" cy="1523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льтурная програм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парт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38862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дение перегов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приобрет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луг субподрядч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909"/>
                </a:solidFill>
                <a:latin typeface="Comic Sans MS"/>
              </a:rPr>
              <a:t>Перспективные направления исследований</a:t>
            </a:r>
            <a:endParaRPr b="0" lang="en-US" sz="40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компонентов комплексных образовательных услуг и их взаимо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ализ образовательных услуг в кросскультурном и транснациональном контекс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ндартизация, адаптация, дифференци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ль и стратегия негосударственных ВУ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зовательный консалт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бликации по маркетингу образования для практ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Comic Sans MS"/>
              </a:rPr>
              <a:t>Маркетинг высшего образования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ста хватит всем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895480"/>
            <a:ext cx="3353040" cy="99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guinova@rea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909"/>
                </a:solidFill>
                <a:latin typeface="Comic Sans MS"/>
              </a:rPr>
              <a:t>Маркетинг высшего образования: основные понятия, новые тенденции и перспективы</a:t>
            </a:r>
            <a:endParaRPr b="0" lang="en-US" sz="32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666880"/>
            <a:ext cx="1828800" cy="1371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н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666880"/>
            <a:ext cx="2133720" cy="1371600"/>
          </a:xfrm>
          <a:prstGeom prst="hexagon">
            <a:avLst>
              <a:gd name="adj" fmla="val 0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ов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12600">
            <a:off x="4492440" y="2665080"/>
            <a:ext cx="1982520" cy="1371600"/>
          </a:xfrm>
          <a:custGeom>
            <a:avLst/>
            <a:gdLst>
              <a:gd name="textAreaLeft" fmla="*/ 160560 w 1982520"/>
              <a:gd name="textAreaRight" fmla="*/ 1821960 w 1982520"/>
              <a:gd name="textAreaTop" fmla="*/ 110880 h 1371600"/>
              <a:gd name="textAreaBottom" fmla="*/ 126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енден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30481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707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590920"/>
            <a:ext cx="2210040" cy="144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На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следов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038480"/>
            <a:ext cx="2133720" cy="83844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4038480"/>
            <a:ext cx="2133720" cy="7621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038480"/>
            <a:ext cx="2133720" cy="6858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Comic Sans MS"/>
              </a:rPr>
              <a:t>Основные понятия: </a:t>
            </a:r>
            <a:r>
              <a:rPr b="1" lang="en-US" sz="4400" spc="-1" strike="noStrike">
                <a:solidFill>
                  <a:srgbClr val="fff909"/>
                </a:solidFill>
                <a:latin typeface="Comic Sans MS"/>
              </a:rPr>
              <a:t>продукт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кция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чебник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борудованные помещения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ыпускник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Comic Sans MS"/>
              </a:rPr>
              <a:t>Основные понятия: </a:t>
            </a:r>
            <a:r>
              <a:rPr b="1" lang="en-US" sz="4400" spc="-1" strike="noStrike">
                <a:solidFill>
                  <a:srgbClr val="fff909"/>
                </a:solidFill>
                <a:latin typeface="Comic Sans MS"/>
              </a:rPr>
              <a:t>продукт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Образовательная программ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это комплекс образовательных продуктов    и услуг, нацеленный на изменение образовательного уровня и/или профессиональной подготовки потребителя и обеспеченный соответствующими ресурсами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909"/>
                </a:solidFill>
                <a:latin typeface="Comic Sans MS"/>
              </a:rPr>
              <a:t>Основные понятия: </a:t>
            </a:r>
            <a:r>
              <a:rPr b="1" lang="en-US" sz="4400" spc="-1" strike="noStrike">
                <a:solidFill>
                  <a:srgbClr val="fff909"/>
                </a:solidFill>
                <a:latin typeface="Comic Sans MS"/>
              </a:rPr>
              <a:t>продукт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ассификация образовательных програм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уровню обра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рофилю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форме об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используемым метод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наличию дополнительных компон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8120" y="3048120"/>
            <a:ext cx="3124080" cy="198108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09"/>
                </a:solidFill>
                <a:latin typeface="Comic Sans MS"/>
              </a:rPr>
              <a:t>Основные понятия: </a:t>
            </a:r>
            <a:r>
              <a:rPr b="1" lang="en-US" sz="3600" spc="-1" strike="noStrike">
                <a:solidFill>
                  <a:srgbClr val="fff909"/>
                </a:solidFill>
                <a:latin typeface="Comic Sans MS"/>
              </a:rPr>
              <a:t>потребители и целевые аудитории вуза</a:t>
            </a:r>
            <a:endParaRPr b="0" lang="en-US" sz="36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581280"/>
            <a:ext cx="198108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590920"/>
            <a:ext cx="182880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уденты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уш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133720"/>
            <a:ext cx="198108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ани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438280"/>
            <a:ext cx="1981080" cy="838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сударст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обще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809880"/>
            <a:ext cx="1676520" cy="9907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дит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0292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битурие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школ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76920"/>
            <a:ext cx="1524240" cy="990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5181480"/>
            <a:ext cx="2590920" cy="99072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подавате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350532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авщи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909"/>
                </a:solidFill>
                <a:latin typeface="Comic Sans MS"/>
              </a:rPr>
              <a:t>Стратегия ВУЗа</a:t>
            </a:r>
            <a:endParaRPr b="0" lang="en-US" sz="5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73" name="Puzzle1"/>
          <p:cNvSpPr/>
          <p:nvPr/>
        </p:nvSpPr>
        <p:spPr>
          <a:xfrm>
            <a:off x="1143000" y="1600200"/>
            <a:ext cx="2438280" cy="137160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15238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ильные стор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uzzle3"/>
          <p:cNvSpPr/>
          <p:nvPr/>
        </p:nvSpPr>
        <p:spPr>
          <a:xfrm>
            <a:off x="3200400" y="1981080"/>
            <a:ext cx="2050920" cy="160020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0600" y="25146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лабые стор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uzzle4"/>
          <p:cNvSpPr/>
          <p:nvPr/>
        </p:nvSpPr>
        <p:spPr>
          <a:xfrm>
            <a:off x="990720" y="3200400"/>
            <a:ext cx="1600200" cy="1676520"/>
          </a:xfrm>
          <a:prstGeom prst="pi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49800" y="365760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озможности ры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uzzle2"/>
          <p:cNvSpPr/>
          <p:nvPr/>
        </p:nvSpPr>
        <p:spPr>
          <a:xfrm>
            <a:off x="2286000" y="4191120"/>
            <a:ext cx="2438280" cy="16002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9520" y="4572000"/>
            <a:ext cx="31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грозы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909"/>
                </a:solidFill>
                <a:latin typeface="Comic Sans MS"/>
              </a:rPr>
              <a:t>Стратегия ВУЗа</a:t>
            </a:r>
            <a:endParaRPr b="0" lang="en-US" sz="44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82" name="Puzzle3"/>
          <p:cNvSpPr/>
          <p:nvPr/>
        </p:nvSpPr>
        <p:spPr>
          <a:xfrm>
            <a:off x="4545000" y="1600200"/>
            <a:ext cx="2355840" cy="24526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uzzle2"/>
          <p:cNvSpPr/>
          <p:nvPr/>
        </p:nvSpPr>
        <p:spPr>
          <a:xfrm>
            <a:off x="3859200" y="3387600"/>
            <a:ext cx="3760920" cy="22352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uzzle4"/>
          <p:cNvSpPr/>
          <p:nvPr/>
        </p:nvSpPr>
        <p:spPr>
          <a:xfrm>
            <a:off x="2413080" y="3314880"/>
            <a:ext cx="2265120" cy="2857320"/>
          </a:xfrm>
          <a:prstGeom prst="pi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uzzle1"/>
          <p:cNvSpPr/>
          <p:nvPr/>
        </p:nvSpPr>
        <p:spPr>
          <a:xfrm>
            <a:off x="1600200" y="2301840"/>
            <a:ext cx="3807000" cy="170352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960" y="342900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онкурентное преимуществ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cc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909"/>
                </a:solidFill>
                <a:latin typeface="Comic Sans MS"/>
              </a:rPr>
              <a:t>Новые вопросы:</a:t>
            </a:r>
            <a:br>
              <a:rPr sz="3600"/>
            </a:br>
            <a:r>
              <a:rPr b="0" lang="en-US" sz="3600" spc="-1" strike="noStrike">
                <a:solidFill>
                  <a:srgbClr val="fff909"/>
                </a:solidFill>
                <a:latin typeface="Comic Sans MS"/>
              </a:rPr>
              <a:t>информация к размышлению</a:t>
            </a:r>
            <a:endParaRPr b="0" lang="en-US" sz="3600" spc="-1" strike="noStrike">
              <a:solidFill>
                <a:srgbClr val="fff90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ндартизация и конкурентные преимущ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кспорт образовательных услуг и студ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народные и транснациональные програм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ятое 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комплекса маркет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подавание и научные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зовательный консалтин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руктура  образовательных услуг и возможный конфликт компон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04:51Z</dcterms:created>
  <dc:creator>Olga Saginova</dc:creator>
  <dc:description/>
  <dc:language>en-US</dc:language>
  <cp:lastModifiedBy>Olga Saginova</cp:lastModifiedBy>
  <dcterms:modified xsi:type="dcterms:W3CDTF">2002-01-30T18:38:26Z</dcterms:modified>
  <cp:revision>5</cp:revision>
  <dc:subject/>
  <dc:title> Маркетинг высшего образования</dc:title>
</cp:coreProperties>
</file>